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dt" idx="4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5E8BC-5765-4613-921E-F0C4727AAE33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19182-0B4D-426F-AEF0-EDB40B34D4E5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4401-B9A9-42CB-BD18-5CFE7E7E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286-D141-4DAD-AE11-AD2DE3FB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61EC0-900B-4093-873B-9769D6DB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E70A9-3310-45D0-98FB-24D9C80E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3D843-9184-48D4-B478-C3B3F9A7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9E683-42E3-48AD-8788-2FDE50A1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F9090-47E8-4FD7-AADD-084184D1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6760B-8F96-45B8-8FB5-A9DEB4D9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C66FA-869E-4911-B0E2-43C71E24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F3207-2DCD-4228-A908-A8D24689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B1C41-28C3-4A37-AD5C-E511D1CC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88187-0818-4D84-BACF-08BED72A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849-BDEF-4213-A489-29F8A066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291D3-B0FE-4F9C-84C3-6EB1FEC0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B0816-861E-453C-BC5E-B7FB3871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4C167-42C8-4843-A7F2-A2D9C5B1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CAFFD-F7F5-4720-911B-8630506E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3E5F7-F206-4D4C-ACBE-CE5BA3EB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33FC7-BB07-48D6-A5CF-98EAA25A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AE365-981E-49A3-8CF3-33AE1F89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92DA7-4446-4BC7-A33E-A18F5CB1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DC693-4734-47F9-BA19-6F62FAE4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7930D-4CE3-4418-9834-056B6C11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253A-EFFC-499A-95F3-2CB34D4F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AE54B-908A-46EE-A984-98A49013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5954F-D5F4-4580-82E8-FA55BA76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1BBCE-3F47-4B20-91F5-2D27ECE3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A6814-019B-486C-B5C9-497DF530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ADAB7-1ABD-4FDF-BF1F-916F42E9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FC190-7A5D-45FA-8393-57B2CE3B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3B66B-6560-4EA7-8599-5DBCB59D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B2009-1980-4C6E-9E87-AB5D0176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4C82E-E84E-4B87-8D04-F11FF696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1B2E2-0967-4890-9286-BD0A3940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C314-39FF-4DFC-95E8-89BC43A2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B0750-4068-4904-9094-4F734971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83D16-A868-49CA-9E65-9F763BC9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0BCF9-87F4-4459-BD27-35A60201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9172D-B6B4-43DB-8FB0-23FB068A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9594B-43CE-4DE7-BE73-8F490505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D297F-50CF-4550-87AA-BF477560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7F507-23C3-4E2F-9746-D3E7DC41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767D5-0F03-4CC3-9A3D-75F14D04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14CC0-21E1-4ECC-8C3A-CCE1A4AC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761AB-C79B-4A35-8277-6202CD4B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E3B5-E5BE-48C1-8327-60CB4DAC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5B7C4-5E72-427F-9B48-AA94DB2C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20C32-8F45-454D-A333-3DB8B04E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EFB4B-DE62-4573-9120-3F5095B2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3A1DA-F70F-41BC-BAA4-89E31660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1B517-961E-4001-A668-994B8CEC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E8E49-1FB4-4A50-8A2B-02E61F0D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EC9EA3-0CB7-4467-96BF-50ECAB37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748F6-FA74-4987-AECB-9E691CC0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87BEC-0065-461A-ADCC-7446CEEE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6551D-33EA-454D-A90A-46F4C96F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8F52-BC0A-4D9E-ACFE-3E4C6057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EEEB2-50A1-4D4E-9DD8-5AC3E78E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9912F-ECD6-4146-8273-33595EBA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B6F80-0D41-47EA-8473-6BE7F8D1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449BC-2272-4041-92F2-54638390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53678-2130-4F2F-BD20-1CB8EE16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5B686-16FB-4021-A76C-A012E24B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B8439-8694-4317-906B-5D851662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4E23-85C4-43C7-9820-F73C2E4A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1406-0792-4AEE-B86D-1B4BB4DD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67D8-5EEE-4722-91B8-1832E869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EE3D-FEE1-4FFD-BA4A-A9B69C04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FC8-D5DF-44B1-8937-BAD69A3D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EC65-423B-4A06-AA24-9566A237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9334-F845-4DE1-9A39-CC8C1EBB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F08B-42A3-45AC-B330-59F34392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2EAD-FE91-469B-8581-492ABCF6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1E42-723F-477A-8FD0-5F0E7C8B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20752-2AED-4928-AEB4-7DAB1BCD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5BA4B-131B-49AB-932E-B3D05AB7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947EC-BE06-4471-8FD8-F6A1EEC5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AB64C-5E19-477C-90AC-D20604FD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B260B-D848-4872-A36E-F40B6DDE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1197-B6FA-46F2-B47E-C2303655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1367C-6E18-4E4A-8E40-6807B12F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EFD65-B65D-478B-A805-1245E2DE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449BF-50BE-41DF-BA65-D6DDB00B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F8816-3129-4063-A780-3F7402A0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AE821-DA93-421A-8D04-EAF5EAF7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AE5B2-C0E3-4E16-AECA-E4DB3C7A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CBEC-47A6-4960-B701-9250FF39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34A87-D37D-4BB1-B47A-9DD3B7A2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3CE3E-4B52-43DB-A1AA-822F9585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C8FC1-8B13-40C7-94B6-DB6D67B1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67D7-9E97-458D-8B01-933AA704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1EBF1-7B22-4C64-BF95-C5466F1C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3B4AF-09AD-4F73-B5C7-72DEC068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8D08D-3241-46DA-9BB1-C627BB58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F0533-029F-462E-82CA-459EAB31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B2318-AA86-43DB-B1FC-CB5B1E38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F4CD4-F298-485A-8D1B-C0E1FEAB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390A5-E104-451F-A67A-A8CE40AB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2B8BE-CC75-4B7B-886B-17D02A18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FB538-9AE9-4F56-97A6-76844F99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13AF7-9019-4C2C-B8A9-79799A32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6E4-B978-4CD5-BCCE-FEDDBFA1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8D745-AFCC-43E2-854A-C7731443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55C19-E2E1-4055-B922-B80D9730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8AC45-8D3E-405F-89FA-E51A6773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E199A-5D54-4C23-AB92-D07BB868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D910A-0DE4-4ABF-A401-78BF78B2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DDAFC-553F-4BBA-ABF1-E4630641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EE5E6-B4AA-41CB-A0E5-C1E167F6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F3297-8DB7-4CF8-992B-1FBEECFA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C3D48-8950-4077-B759-D419C8F2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CB4BE-8480-463B-AC77-D16BF2C9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86E9-8B3F-44E0-A402-644FAFAE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841B9-048A-4E25-AED4-099643C8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CCAEA-B540-41F9-9DEC-58322541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7AF8F-B126-4685-8111-CF8A6FA7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03953-DD98-49F1-8B4B-FDAB3DFA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522AE-6C0C-4401-AB8F-D288789D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0598A-EC4F-41A6-93C9-1EB30CFE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3FCA7-3F7D-4BCE-8AC6-3318632C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846FC-BBAA-4BCF-A1C3-0D01129C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1E54E-EEB1-4CBD-8D6D-3F85A8E9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CE756-D647-4D29-A49B-BEB8AC37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DE4-7F7B-48B0-88FB-6B74B0DC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7E443-185F-478F-8EFA-A1EB77F2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55491-8C07-4DCE-B3D1-8361DE16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28664-FB2E-4847-9C1A-433F8B91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8085D-C838-44F4-9D83-99DA202A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C32E2-8F5B-44D4-B8D8-0E593720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2A8EB-9F54-47EF-967E-584CA2F0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E557C-8177-4869-B712-52763164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F5B01-E3BC-4E01-858D-7E7DAB75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B8BA1-B492-410F-B515-1E0BCB73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81681-368C-4B6B-B980-D0F36855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0F9-1316-4D1F-A6BA-4A94A884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B158A-E5DE-4D4C-B284-CD260F88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AE711-79AD-416D-A7CA-5A2FA017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09CCA-DCC9-4F9B-BB9F-E41246F6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8D414-3605-4F2F-A0FA-7F947D48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A10A7-FD1C-4978-A050-7CB0DE89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37F5A-5EB3-4ACA-93A8-2DBBE673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4EB77-9E38-42A4-8272-C637B006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F52B0-F7EB-4ECE-85A5-6E1B8838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BB078-D8C3-47D8-962F-9BEBE36A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032A3-AD51-41C0-BB29-F301FD9E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540-4F73-43B2-BAAD-B0C40D1F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727FC-F1B6-4796-8477-39004340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A6DD2-45BF-4148-B1EB-71F2AF74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8CAE3-F29B-4E63-AE64-67DBD1E3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6E7EA-1C5F-4DDC-A188-051FFD86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E59D6-C0C2-422D-A5E7-B2C5EFC6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3AF34-21AB-49C7-BAFD-DE4B4116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3618E-D1F0-4FB3-A816-12739BB9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692A6-9F21-41B9-8A28-D9AD6F2B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E1657-A097-4DD1-ABEA-1324C868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1DEB9-292F-4335-B739-013EA8E9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D6399-11D5-48C3-911D-81C8F4DD69EF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28A95-4E67-4EDF-A25F-B08AE32C1B49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FF3E6-6B26-4E40-A856-DF78A71039F7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BCD9C-0F28-40A0-8792-F89D1254FFA7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E5993-A130-497F-9A2B-F5F29E9129D6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C967C-6B43-466A-89AD-F36AE88E3946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42733-C774-42E3-9FBB-E8CC5D3D1DBF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B805D-B48D-44BE-9B1C-93F2FA724461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96839-E6B4-412E-A6B3-7BC53128EC8F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80DF4-0AC8-4614-A524-749A336712AB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7EFE6-C097-4010-817C-0FE819C65FE0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3A117-25C2-4FC6-8A18-ECFE2935D88E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C5421-8943-49F0-B146-CE074A5AE466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45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" descr=""/>
          <p:cNvPicPr/>
          <p:nvPr/>
        </p:nvPicPr>
        <p:blipFill>
          <a:blip r:embed="rId1"/>
          <a:srcRect l="75608" t="35538" r="7244" b="53025"/>
          <a:stretch/>
        </p:blipFill>
        <p:spPr>
          <a:xfrm>
            <a:off x="8136000" y="216000"/>
            <a:ext cx="1727280" cy="647640"/>
          </a:xfrm>
          <a:prstGeom prst="rect">
            <a:avLst/>
          </a:prstGeom>
          <a:ln w="0">
            <a:noFill/>
          </a:ln>
        </p:spPr>
      </p:pic>
      <p:grpSp>
        <p:nvGrpSpPr>
          <p:cNvPr id="541" name="Group 2"/>
          <p:cNvGrpSpPr/>
          <p:nvPr/>
        </p:nvGrpSpPr>
        <p:grpSpPr>
          <a:xfrm>
            <a:off x="-41400" y="3197160"/>
            <a:ext cx="2760840" cy="2301480"/>
            <a:chOff x="-41400" y="3197160"/>
            <a:chExt cx="2760840" cy="2301480"/>
          </a:xfrm>
        </p:grpSpPr>
        <p:pic>
          <p:nvPicPr>
            <p:cNvPr id="542" name="Picture 3" descr=""/>
            <p:cNvPicPr/>
            <p:nvPr/>
          </p:nvPicPr>
          <p:blipFill>
            <a:blip r:embed="rId2"/>
            <a:stretch/>
          </p:blipFill>
          <p:spPr>
            <a:xfrm>
              <a:off x="-41400" y="3660120"/>
              <a:ext cx="276084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Text Box 4"/>
            <p:cNvSpPr/>
            <p:nvPr/>
          </p:nvSpPr>
          <p:spPr>
            <a:xfrm>
              <a:off x="584280" y="3197160"/>
              <a:ext cx="18698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8200" bIns="4500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alibri"/>
                </a:rPr>
                <a:t>Wahlkamp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5"/>
          <p:cNvSpPr/>
          <p:nvPr/>
        </p:nvSpPr>
        <p:spPr>
          <a:xfrm>
            <a:off x="6902280" y="28796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820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Richtige Reihenfolge 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6902280" y="33116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 - Wahlk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6912000" y="3743280"/>
            <a:ext cx="2952720" cy="360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 - Wahlbenachrichti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6902280" y="417672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 - Wahllo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6902280" y="460836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 - Wahlzet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6902280" y="504036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 - Wa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87280" y="144360"/>
            <a:ext cx="4896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116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Wie funktioniert die Wah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12"/>
          <p:cNvGrpSpPr/>
          <p:nvPr/>
        </p:nvGrpSpPr>
        <p:grpSpPr>
          <a:xfrm>
            <a:off x="216000" y="792000"/>
            <a:ext cx="2806200" cy="2014560"/>
            <a:chOff x="216000" y="792000"/>
            <a:chExt cx="2806200" cy="2014560"/>
          </a:xfrm>
        </p:grpSpPr>
        <p:pic>
          <p:nvPicPr>
            <p:cNvPr id="552" name="Picture 13" descr=""/>
            <p:cNvPicPr/>
            <p:nvPr/>
          </p:nvPicPr>
          <p:blipFill>
            <a:blip r:embed="rId3"/>
            <a:stretch/>
          </p:blipFill>
          <p:spPr>
            <a:xfrm>
              <a:off x="216000" y="1219320"/>
              <a:ext cx="238392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 Box 14"/>
            <p:cNvSpPr/>
            <p:nvPr/>
          </p:nvSpPr>
          <p:spPr>
            <a:xfrm>
              <a:off x="503280" y="792000"/>
              <a:ext cx="1222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8200" bIns="4500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alibri"/>
                </a:rPr>
                <a:t>Wahllok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15"/>
            <p:cNvSpPr/>
            <p:nvPr/>
          </p:nvSpPr>
          <p:spPr>
            <a:xfrm>
              <a:off x="2520360" y="1871640"/>
              <a:ext cx="501840" cy="285840"/>
            </a:xfrm>
            <a:prstGeom prst="rightArrow">
              <a:avLst>
                <a:gd name="adj1" fmla="val 50000"/>
                <a:gd name="adj2" fmla="val 43892"/>
              </a:avLst>
            </a:prstGeom>
            <a:solidFill>
              <a:srgbClr val="729fcf"/>
            </a:solidFill>
            <a:ln w="9360">
              <a:solidFill>
                <a:srgbClr val="3465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16"/>
          <p:cNvGrpSpPr/>
          <p:nvPr/>
        </p:nvGrpSpPr>
        <p:grpSpPr>
          <a:xfrm>
            <a:off x="2735280" y="1098720"/>
            <a:ext cx="2590920" cy="2066760"/>
            <a:chOff x="2735280" y="1098720"/>
            <a:chExt cx="2590920" cy="2066760"/>
          </a:xfrm>
        </p:grpSpPr>
        <p:pic>
          <p:nvPicPr>
            <p:cNvPr id="556" name="Picture 17" descr=""/>
            <p:cNvPicPr/>
            <p:nvPr/>
          </p:nvPicPr>
          <p:blipFill>
            <a:blip r:embed="rId4"/>
            <a:stretch/>
          </p:blipFill>
          <p:spPr>
            <a:xfrm>
              <a:off x="2735280" y="1487520"/>
              <a:ext cx="2517840" cy="16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Text Box 18"/>
            <p:cNvSpPr/>
            <p:nvPr/>
          </p:nvSpPr>
          <p:spPr>
            <a:xfrm>
              <a:off x="3600360" y="10987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8200" bIns="4500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alibri"/>
                </a:rPr>
                <a:t>Wah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19"/>
            <p:cNvSpPr/>
            <p:nvPr/>
          </p:nvSpPr>
          <p:spPr>
            <a:xfrm>
              <a:off x="4824360" y="1871640"/>
              <a:ext cx="501840" cy="285840"/>
            </a:xfrm>
            <a:prstGeom prst="rightArrow">
              <a:avLst>
                <a:gd name="adj1" fmla="val 50000"/>
                <a:gd name="adj2" fmla="val 43892"/>
              </a:avLst>
            </a:prstGeom>
            <a:solidFill>
              <a:srgbClr val="729fcf"/>
            </a:solidFill>
            <a:ln w="9360">
              <a:solidFill>
                <a:srgbClr val="3465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20"/>
          <p:cNvGrpSpPr/>
          <p:nvPr/>
        </p:nvGrpSpPr>
        <p:grpSpPr>
          <a:xfrm>
            <a:off x="5327640" y="720720"/>
            <a:ext cx="2793600" cy="2750400"/>
            <a:chOff x="5327640" y="720720"/>
            <a:chExt cx="2793600" cy="2750400"/>
          </a:xfrm>
        </p:grpSpPr>
        <p:pic>
          <p:nvPicPr>
            <p:cNvPr id="560" name="Picture 21" descr=""/>
            <p:cNvPicPr/>
            <p:nvPr/>
          </p:nvPicPr>
          <p:blipFill>
            <a:blip r:embed="rId5"/>
            <a:stretch/>
          </p:blipFill>
          <p:spPr>
            <a:xfrm>
              <a:off x="5386320" y="1016280"/>
              <a:ext cx="2734920" cy="18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Text Box 22"/>
            <p:cNvSpPr/>
            <p:nvPr/>
          </p:nvSpPr>
          <p:spPr>
            <a:xfrm>
              <a:off x="5327640" y="720720"/>
              <a:ext cx="273492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8200" bIns="4500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alibri"/>
                </a:rPr>
                <a:t>Wahlbenachrichtigu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23"/>
            <p:cNvSpPr/>
            <p:nvPr/>
          </p:nvSpPr>
          <p:spPr>
            <a:xfrm flipH="1" rot="19320000">
              <a:off x="5573160" y="3072600"/>
              <a:ext cx="430200" cy="297360"/>
            </a:xfrm>
            <a:prstGeom prst="rightArrow">
              <a:avLst>
                <a:gd name="adj1" fmla="val 50000"/>
                <a:gd name="adj2" fmla="val 36168"/>
              </a:avLst>
            </a:prstGeom>
            <a:solidFill>
              <a:srgbClr val="729fcf"/>
            </a:solidFill>
            <a:ln w="9360">
              <a:solidFill>
                <a:srgbClr val="3465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24"/>
          <p:cNvGrpSpPr/>
          <p:nvPr/>
        </p:nvGrpSpPr>
        <p:grpSpPr>
          <a:xfrm>
            <a:off x="2370960" y="3384720"/>
            <a:ext cx="3053160" cy="2079360"/>
            <a:chOff x="2370960" y="3384720"/>
            <a:chExt cx="3053160" cy="2079360"/>
          </a:xfrm>
        </p:grpSpPr>
        <p:pic>
          <p:nvPicPr>
            <p:cNvPr id="564" name="Picture 25" descr=""/>
            <p:cNvPicPr/>
            <p:nvPr/>
          </p:nvPicPr>
          <p:blipFill>
            <a:blip r:embed="rId6"/>
            <a:stretch/>
          </p:blipFill>
          <p:spPr>
            <a:xfrm>
              <a:off x="2947320" y="3816360"/>
              <a:ext cx="2476800" cy="16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Text Box 26"/>
            <p:cNvSpPr/>
            <p:nvPr/>
          </p:nvSpPr>
          <p:spPr>
            <a:xfrm>
              <a:off x="3306960" y="3384720"/>
              <a:ext cx="173052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ahlzet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27"/>
            <p:cNvSpPr/>
            <p:nvPr/>
          </p:nvSpPr>
          <p:spPr>
            <a:xfrm rot="10680000">
              <a:off x="2375640" y="3897000"/>
              <a:ext cx="502200" cy="285840"/>
            </a:xfrm>
            <a:prstGeom prst="rightArrow">
              <a:avLst>
                <a:gd name="adj1" fmla="val 50000"/>
                <a:gd name="adj2" fmla="val 43923"/>
              </a:avLst>
            </a:prstGeom>
            <a:solidFill>
              <a:srgbClr val="729fcf"/>
            </a:solidFill>
            <a:ln w="9360">
              <a:solidFill>
                <a:srgbClr val="3465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7" name="Object 28"/>
          <p:cNvGraphicFramePr/>
          <p:nvPr/>
        </p:nvGraphicFramePr>
        <p:xfrm>
          <a:off x="3816360" y="4751280"/>
          <a:ext cx="6119640" cy="1078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68" name="Object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16360" y="4751280"/>
                    <a:ext cx="611964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15T08:15:40Z</dcterms:created>
  <dc:creator>kumulus-02</dc:creator>
  <dc:description/>
  <dc:language>en-US</dc:language>
  <cp:lastModifiedBy>Janet Meschede</cp:lastModifiedBy>
  <dcterms:modified xsi:type="dcterms:W3CDTF">2024-03-04T12:35:46Z</dcterms:modified>
  <cp:revision>9</cp:revision>
  <dc:subject/>
  <dc:title>PowerPoint-Präsentation</dc:title>
</cp:coreProperties>
</file>